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B30-52D8-428F-9729-7ACA5CE6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F8A-31F6-44C9-B6D0-97231ECD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191-6196-48CD-8CA4-72910981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8A4-3E17-41F2-9950-9CB7115F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054-A7E6-40D1-8AA4-49A123B9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425-2127-4325-9D04-499A27A8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BDB-A1CA-48B3-B4A6-3F0D7CAC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4BF-8ACE-4B39-AD7A-A3B3C273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9DA-B312-4690-A753-682163B1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84D-7A17-47DF-BFFF-B0EE15A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A67-CFFD-4AB6-9014-915EFE7A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FEB-E6D1-4450-BEED-A0A20BD5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3DD6-A895-471B-9E89-AA917C11822C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-685800"/>
            <a:ext cx="891540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 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14400" y="1523880"/>
            <a:ext cx="38088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0720" y="-76320"/>
            <a:ext cx="8153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به يا بني  بالمس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عن ايمانك اوعا تز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مشي عا الدرب الصح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ل ع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0720" y="96840"/>
            <a:ext cx="8153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ارك يا بني بجماعة 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راع الكلمة بشجاع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خدوم الإخوة بوداع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صل عالسما (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0720" y="-1219320"/>
            <a:ext cx="815364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ارك يا بني بالأسرار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بإيمانك لا تحتا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قرا إنجيلك بإستمرا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توصل عالسما (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1:47:49Z</dcterms:created>
  <dc:creator>user</dc:creator>
  <dc:description/>
  <dc:language>en-US</dc:language>
  <cp:lastModifiedBy>user</cp:lastModifiedBy>
  <dcterms:modified xsi:type="dcterms:W3CDTF">2006-05-12T05:39:00Z</dcterms:modified>
  <cp:revision>9</cp:revision>
  <dc:subject/>
  <dc:title>Slide 1</dc:title>
</cp:coreProperties>
</file>